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927C-7CEC-4EC2-9774-7315EA14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6CF-58AC-4D65-9008-77C4A131E7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F310-57C5-42EE-9BFF-1FA68D0A16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401C-DBEA-4A7D-811B-7501CA1F7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BBE1-295D-44D2-A8DC-F4829B891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9332-DE0F-4EA2-8F40-DB388E2658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D6B-767E-449B-AF95-A46C6EF6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2BD-0BD4-426C-82AF-9BD32606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742-9411-4611-8625-15D2A5B6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3C35-A38E-44BA-9F5B-19DF00F2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2CE1-BAD7-4529-A83D-1872C6D2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7D10-CFF9-4BDA-AD92-4F603D72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5B07-C7C4-431F-A151-417F04A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7CB-F8D0-4D28-A1DA-E012C53F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EE6-D8A8-4DE8-A7DB-2B58A433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17F-8804-430E-89DE-341F703F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2002-1EC4-4754-8D5A-ACD9BF49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016F-567D-4183-A3EF-379FFE36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E6F5-D8CB-4A79-AAFD-D9CB0C8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23F7-EE21-4BFA-8D52-C6B96805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9ABC-5DE8-4FB6-BEAD-B90E9E8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09AE-C627-45E5-BE6F-D2B6B102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B7F3-CEB4-491B-9A38-301A0278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B63-A4CD-424C-9ED5-D826582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67D-2773-4135-A494-849149DC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A4F-36BB-41AC-931A-F3BA1426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A1E-4FCE-4100-9D31-3240E4A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572-A746-40D7-A76B-6AFBB7F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47F-612F-4435-91EE-9429433F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0EF-2E7B-4987-AF5D-77B0583C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947D-D3B2-4ED7-9596-941D1F18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A35E-B94F-4A5C-A3AA-2144DF85EC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SUPREME COU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current chief Justice of the Supreme Cour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327480" y="3276720"/>
            <a:ext cx="2487600" cy="31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many Supreme Court Justices are ther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048120"/>
            <a:ext cx="3052800" cy="30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ich Article of the Constitution created the Judicial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2760" y="32767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is the PRIMARY function of the Supreme Cour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4023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types of jurisdiction does the Supreme Court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2613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4T12:57:11Z</dcterms:modified>
  <cp:revision>135</cp:revision>
  <dc:subject/>
  <dc:title>D/O: TO EXPLAIN AND IDENTIFY PROBLEMS OF ECONOMICS</dc:title>
</cp:coreProperties>
</file>